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94D4-5D73-4741-B5FE-234A5A9A99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ADB36E-04E3-4FD0-806E-D66C86FE82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40D-ABCA-447B-B3FC-9DE75849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C37-4D19-48D2-9C88-ED997F83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222-2A87-4240-8619-DCC3C41C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21F-6C00-4A87-B4DC-27127A99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F77-FF4A-4DFD-9DE4-42D27D58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396-3F10-43B3-8CAC-91BCA402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E004-3405-4875-8BA1-14D55CDE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3D4D-005F-44E8-B77F-1175D742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527-13B0-4241-95CF-F4C1B73B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116D-F7D6-4704-B3D2-F879B013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45FF-571D-4AD9-A584-2F56BA8C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5FB-110E-492F-A748-5CAFA42C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01C5-FA4D-4385-B07F-E71D136CCC9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0427-E964-45E5-AC13-6F41F8B8E5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fayazova@yandex.ru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евая  сетевая модель горизонтального обуч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как системообразующий элемент персонифицированной системы повышения квалификации работников образования Пермского кр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42960" y="5429160"/>
            <a:ext cx="8501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густ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ализации ПСП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3153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  работы над индивидуальным образовательным маршру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ностика профессионального мастерства, самоопределение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на основе полученных результатов индивидуального образовательного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й анализ эффективности индивидуального образовательного маршру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РОПРИЯТИЯ 2020-2021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143000"/>
          <a:ext cx="9144000" cy="5500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явить и обобщить новые образовательные активности в педагогической среде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Методический аукцион на площадке Сетевого сообщества  в феврале 2021г. Публикации опыта в СМИ «Вестник образования Пермского кр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вовать в апробации диагностического контента по выявлению проф дефицитов работников образ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пробация – ноябрь 2020г –апрель 2021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ать механизм отбора и аккумулирования содержательного контента для реализации ИОМов работников образования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бочая группа (по плану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то желает направляет свою кандидатуру на эл. почту: </a:t>
                      </a: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fayazova@yandex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руктурно-функциональная мод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-55440" y="993600"/>
            <a:ext cx="927864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P2P (англ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«равный равному»), обучение внутри профес. сообществ педагогов и руководителей О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аимо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е решение, обеспечивающее использование ресурсов одновременно несколь-ких организаций в реализации процесса непре-рывного образования, осуществляемого в течение всей жизни взрослым индивидом в целях профессионального роста и личностного совершенств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пределенная система обучения на основе сотрудниче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обучения, который строится на сотрудничестве группы обучаю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путное обучение» в процессе групповой деятельности и общения (Л. Аберкромби (Лондон), Кеннет Браффи (Нью-Йорк)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дель непрерывного профессионального развития 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-42840" y="1206360"/>
            <a:ext cx="920592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тевое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ое (взаимное) обучение (англ. networked learning, peer-to-peer learning) — относительно новая парадигма учебной деятельности, базирующаяся на идее массового сотрудничества, идеологии открытых образовательных ресурсов, в сочетании с сетевой организацией взаимодействия участ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Цель горизонталь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571400"/>
            <a:ext cx="8429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ение реализации индивидуальных образовательных маршрутов работников образования Пермского края эффективным содержательным контентом для  взаимообучения в  профессиональных сообществах в условиях персонифицированной системы повышения квалифик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- системообразующий элемент ПСПК работников образования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-19080" y="993600"/>
            <a:ext cx="9182160" cy="5870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786040" y="5643720"/>
            <a:ext cx="6357960" cy="1008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яет личностно значимые потреб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раняет профессиональные дефици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ствует проф. компетен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реализации модели горизонтального обу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2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684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643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ерсонифицированная система  повышения квалификации (ПСП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"/>
          <p:cNvPicPr/>
          <p:nvPr/>
        </p:nvPicPr>
        <p:blipFill>
          <a:blip r:embed="rId1"/>
          <a:stretch/>
        </p:blipFill>
        <p:spPr>
          <a:xfrm>
            <a:off x="-19080" y="1206360"/>
            <a:ext cx="91868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fayaz</cp:lastModifiedBy>
  <cp:lastPrinted>2020-03-11T11:23:47Z</cp:lastPrinted>
  <dcterms:modified xsi:type="dcterms:W3CDTF">2020-08-20T19:26:36Z</dcterms:modified>
  <cp:revision>474</cp:revision>
  <dc:subject/>
  <dc:title>Презентация PowerPoint</dc:title>
</cp:coreProperties>
</file>